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9B29-F5B4-45C6-B98D-B340F7E7065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2C33-ABCE-40C5-9BB2-512E99D9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BFDB-AECC-4B80-9B46-B249BC85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F287-51CE-4F58-814E-EC42AA03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66BC-7F95-4081-95A6-034102C8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3A27-37F5-43C1-B33C-8C04D3F4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EF76-8658-4B1B-A9FE-6A3F16B8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E53F-8D20-4AAE-81D3-0407ECB7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75B8-A4CC-4DEA-80A6-23A6E3B6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B2DB-CDA0-4CE8-B927-6A862217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41D2-6E78-40B4-9419-14F75816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F4C6-735F-41CD-849A-16408F99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1245-39C0-4ECE-A3E0-45107BFB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C4BE-FF1F-4BE9-8249-B15ED98D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4D59-C866-4937-A5BC-E047FBDB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0940-DB1F-46BE-8FCA-986990C3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ABC8-564D-4F57-BBE8-79B5F080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9447-D14C-4271-9103-2FF037A4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6AFF-155B-4A77-A34F-416A40ED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758C-85C1-40ED-866D-96F9AA2D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38BA-6870-4C14-A28B-6292E6BB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1CC4-58AB-4152-9B0C-E4975562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301E-773A-44D6-927F-85C381F3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CE72-1388-404E-9ED4-550C08CE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7D28-392D-4FD7-A6A2-1D7FAE87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3294-1364-4F76-800F-301E6EFB8318}" type="datetime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A391-C7C7-402F-AB6F-B31D1AFC89EC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3322-7384-4BE1-95B3-E43D8A480539}" type="datetime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DB11-027A-4556-A6A6-194F98ED45F9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Font typeface="Arial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763280"/>
            <a:ext cx="77724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  <a:ea typeface="宋体"/>
              </a:rPr>
              <a:t>Construction techniques in topological universal algebr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Wolfram Bent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t. Francis Xavier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FC02-402B-49DD-87CE-2C0E4FD3CD0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3882C1F-B3DA-474D-A4EB-68F3D96F7F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宋体"/>
              </a:rPr>
              <a:t>Generic Counterexa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For any element a in F(x,y) consider the elements b “reachable” from a by the following chain of equations, where the p’s are ternary term functions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a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x,y,y),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x,x,y)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x,y,y)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x,x,y)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x,y,y), …,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-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x,x,y)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-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x,y,y),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x,x,y) = b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57E4-291D-42E7-8C2F-26D6C5DE3AA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9F143-EC0E-45E6-8D47-0F7DAED76B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宋体"/>
              </a:rPr>
              <a:t>Generic Counterexa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a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x,y,y),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x,x,y)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x,y,y)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x,x,y)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x,y,y), …,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-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x,x,y)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-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x,y,y),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x,x,y) =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Note that b = x is reachable from a = y (choose n = 1,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u,v,w) = v), but if b = y would be reachable from a = x, then the p’s would be Hagemann-Mitschke ter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A513-8A30-412B-885D-42F29BD7AEC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B720E-B77E-490F-B440-9CE6009A84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宋体"/>
              </a:rPr>
              <a:t>Generic Counterexa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Now let a subset U of F(x,y) be open if for any element a in U, it also contains the elements reachable from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hese sets form a compatible top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Every open set containing y must contain x. Conversely, the set of all elements reachable from x is open, but does not contain 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CC4E-9194-4694-B75C-0997D68C6E5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D3A1A-85F3-4A14-B4FD-B95BEB6FB2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宋体"/>
              </a:rPr>
              <a:t>Generic Counterexa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o x and y are not separable in the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e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Identifying all elements that are contained in exactly the same open sets is a congr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he resulting quotient is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, but preserves the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-inseparability between x and 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36FF-173D-47B9-B7CC-24265B54533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9EEA4-CF8B-4F69-8DAF-72F9FFCA44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宋体"/>
              </a:rPr>
              <a:t>More general examp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he preceding construction relies heavily on the Hagemann – Mitschke terms for n-permu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his was possible because an exact algebraic characterization is kn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If this is not the case, look for a topological construction, that might not be compatible in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If it is “close” to a compatible construction, one can examine the cases were compatibility is achie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8B84-E5E1-4669-B119-985B62E2075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B1AE4-E698-41AD-B8A8-40D73FD6E5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宋体"/>
              </a:rPr>
              <a:t>Swierczkowski – Exten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A metric construction by Taylor (based on a topological one by Swieczkowsk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sider a space D with metric d, and the free algebra F over D (in a varie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For any two elements a and b of F, look at connections of the for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a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),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)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),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)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), …,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-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-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)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-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-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),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) = b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where the p’s are unary polynomial functions and the x’s and y’s are in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5C97-826B-45BA-BC47-D3B2A1E7426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F5897-E320-4B42-AC88-798DECA511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宋体"/>
              </a:rPr>
              <a:t>Swierczkowski – Exten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For any two elements a and b of F, look at connections of the for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a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),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)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),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)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), …,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-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-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) =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-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-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), p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) = b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where the p’s are unary polynomial functions and the x’s and y’s are in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o each such connection assign the value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宋体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(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,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et d(a,b) to be the inf of all corresponding connection values, then d is a compatible metric on F extending the metric of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363A-8A04-4A31-97BA-71529BD3696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100FB-B148-4B81-8D45-C39818B37F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宋体"/>
              </a:rPr>
              <a:t>Swierczkowski – Exten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he Swierczkowski extension allows one to construct a topological algebra having a prescribed subspace, provided the subspace is metriz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E55-3932-4550-8AAC-8501D2B2C49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F521B-D130-4469-8A17-EA1B9FCFA0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宋体"/>
              </a:rPr>
              <a:t>Exa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When examining homotopy properties, Taylor used the free algebra over this spac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95480" y="3581280"/>
            <a:ext cx="1600200" cy="1676520"/>
          </a:xfrm>
          <a:prstGeom prst="ellipse">
            <a:avLst/>
          </a:prstGeom>
          <a:noFill/>
          <a:ln w="9360">
            <a:solidFill>
              <a:srgbClr val="17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3581280"/>
            <a:ext cx="1600200" cy="1676520"/>
          </a:xfrm>
          <a:prstGeom prst="ellipse">
            <a:avLst/>
          </a:prstGeom>
          <a:noFill/>
          <a:ln w="9360">
            <a:solidFill>
              <a:srgbClr val="17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EE40-3375-4B35-90D6-6FCFD144994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27163-8265-4B63-8F0C-908ECE15ED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宋体"/>
              </a:rPr>
              <a:t>Swierczkowski – Exten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01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If the desired counterexamples are not metrizable one can modify a Swierczkowski – 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leman (1996): congruence permutable varieties do not necessarily satis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648320" y="7589880"/>
            <a:ext cx="4038480" cy="452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6400800" y="4191120"/>
                <a:ext cx="16765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T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8165-FF94-4502-9C7E-5C8D67C02F4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A15A5-385A-445B-B194-03251DF80D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  <a:ea typeface="宋体"/>
              </a:rPr>
              <a:t>Introducti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AD55-6309-4CC6-8F76-487F76904A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92FB34E-FD2A-4CEA-90EB-0D7E322457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04920" y="1447920"/>
            <a:ext cx="8534160" cy="502920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宋体"/>
              </a:rPr>
              <a:t>Separation Conditions: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cxnSp>
        <p:nvCxnSpPr>
          <p:cNvPr id="277" name=""/>
          <p:cNvCxnSpPr>
            <a:stCxn id="275" idx="1"/>
            <a:endCxn id="275" idx="1"/>
          </p:cNvCxnSpPr>
          <p:nvPr/>
        </p:nvCxnSpPr>
        <p:spPr>
          <a:xfrm>
            <a:off x="285480" y="396216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grpSp>
        <p:nvGrpSpPr>
          <p:cNvPr id="278" name=""/>
          <p:cNvGrpSpPr/>
          <p:nvPr/>
        </p:nvGrpSpPr>
        <p:grpSpPr>
          <a:xfrm>
            <a:off x="1905120" y="2514600"/>
            <a:ext cx="5333760" cy="304920"/>
            <a:chOff x="1905120" y="2514600"/>
            <a:chExt cx="5333760" cy="304920"/>
          </a:xfrm>
        </p:grpSpPr>
        <p:sp>
          <p:nvSpPr>
            <p:cNvPr id="279" name=""/>
            <p:cNvSpPr/>
            <p:nvPr/>
          </p:nvSpPr>
          <p:spPr>
            <a:xfrm>
              <a:off x="1905120" y="2514600"/>
              <a:ext cx="304560" cy="304920"/>
            </a:xfrm>
            <a:prstGeom prst="ellipse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934320" y="2514600"/>
              <a:ext cx="304560" cy="304920"/>
            </a:xfrm>
            <a:prstGeom prst="ellipse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432560" y="457200"/>
                <a:ext cx="6764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029200" y="1828800"/>
            <a:ext cx="3200400" cy="1523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1828800"/>
            <a:ext cx="3200400" cy="1523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905120" y="4648320"/>
            <a:ext cx="5486400" cy="685800"/>
            <a:chOff x="1905120" y="4648320"/>
            <a:chExt cx="5486400" cy="685800"/>
          </a:xfrm>
        </p:grpSpPr>
        <p:sp>
          <p:nvSpPr>
            <p:cNvPr id="285" name=""/>
            <p:cNvSpPr/>
            <p:nvPr/>
          </p:nvSpPr>
          <p:spPr>
            <a:xfrm>
              <a:off x="1905120" y="4876920"/>
              <a:ext cx="304560" cy="304560"/>
            </a:xfrm>
            <a:prstGeom prst="ellipse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6095880" y="4648320"/>
              <a:ext cx="1295640" cy="685800"/>
              <a:chOff x="6095880" y="4648320"/>
              <a:chExt cx="1295640" cy="685800"/>
            </a:xfrm>
          </p:grpSpPr>
          <p:sp>
            <p:nvSpPr>
              <p:cNvPr id="287" name=""/>
              <p:cNvSpPr/>
              <p:nvPr/>
            </p:nvSpPr>
            <p:spPr>
              <a:xfrm>
                <a:off x="6095880" y="4648320"/>
                <a:ext cx="1295640" cy="685800"/>
              </a:xfrm>
              <a:prstGeom prst="rect">
                <a:avLst/>
              </a:prstGeom>
              <a:solidFill>
                <a:srgbClr val="0068ae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400800" y="48006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"/>
          <p:cNvSpPr/>
          <p:nvPr/>
        </p:nvSpPr>
        <p:spPr>
          <a:xfrm>
            <a:off x="685800" y="4191120"/>
            <a:ext cx="3200400" cy="1523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29200" y="4267080"/>
            <a:ext cx="3200400" cy="15242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4733-9069-43F7-A7D2-A8FD92977338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CC82F-BE33-4310-9D45-B1FC72A8E4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80880" y="1447920"/>
            <a:ext cx="8534520" cy="502920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宋体"/>
              </a:rPr>
              <a:t>Exampl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447920"/>
            <a:ext cx="853452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17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3200400"/>
            <a:ext cx="8534520" cy="0"/>
          </a:xfrm>
          <a:prstGeom prst="line">
            <a:avLst/>
          </a:prstGeom>
          <a:ln w="57240">
            <a:solidFill>
              <a:srgbClr val="17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5764-9E70-487F-A270-45C8F86CF488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1F8CA7-C620-4C9B-80D9-443EF6BA2C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  <a:ea typeface="宋体"/>
              </a:rPr>
              <a:t>Example (Coleman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ake the free algebr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over the real nu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Extend the metric topology of the reals to all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Swierczkowsk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Enlarge the topology so that the subalgebra generated by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Q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is clo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his topology satisfies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, but fails 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Examine whether continuity still holds in the new topolog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8E81-7CDA-46A6-8A90-D1C8EE78A96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DB3C0-8CB0-4DF7-A833-493C70DAA1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  <a:ea typeface="宋体"/>
              </a:rPr>
              <a:t>Example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his construction works (as a topological space) for every non-trivial var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It appears likely that this is fundamental construction in the sense that it is a topological algebra in any variety fail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838080" y="4191120"/>
                <a:ext cx="16765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T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7EBA-0166-48B5-B30B-42929487DBF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7FE39-B34F-4D44-8255-7C1E55CC86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宋体"/>
              </a:rPr>
              <a:t>Exa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Using this example, a large class of varieties was characteriz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entz (2007): A depth 1 variet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satisfi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if and only i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is trivi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Note: depth 1 is a restriction on the defining equations of a var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762120" y="3765600"/>
                <a:ext cx="16761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T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94D8-F51C-45DF-9AB4-BCBE299CC23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1F53D-D29E-485C-AD6D-B6654BC4E8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-2209680" y="1447920"/>
            <a:ext cx="12268080" cy="502920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  <a:ea typeface="宋体"/>
              </a:rPr>
              <a:t>Example (non-Hausdorffness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-2362320" y="3275640"/>
            <a:ext cx="11811240" cy="609480"/>
          </a:xfrm>
          <a:prstGeom prst="line">
            <a:avLst/>
          </a:prstGeom>
          <a:noFill/>
          <a:ln w="57240">
            <a:solidFill>
              <a:srgbClr val="17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8120" y="2286000"/>
            <a:ext cx="3200400" cy="37339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8120" y="2286000"/>
            <a:ext cx="3200400" cy="3733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4343400"/>
            <a:ext cx="533520" cy="609480"/>
          </a:xfrm>
          <a:prstGeom prst="ellipse">
            <a:avLst/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4267080"/>
            <a:ext cx="152640" cy="152640"/>
          </a:xfrm>
          <a:prstGeom prst="ellipse">
            <a:avLst/>
          </a:prstGeom>
          <a:solidFill>
            <a:srgbClr val="fe37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2199-E064-4AC5-BE77-C4B9925383C9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789E9-2002-473B-AE76-41A59F4767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  <a:ea typeface="宋体"/>
              </a:rPr>
              <a:t>Example of a partial construction (Coleman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ake the free algebr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over the real nu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Extend the metric topology of the reals to all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(Swierczkowsk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Introduce an extra point that is not Hausdorff-separable from some base point i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ry to “fit” the algebraic struc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4511-BE19-4989-A9BE-6665B8E3B22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1F4B6-65E1-4322-B60B-E90867C16D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  <a:ea typeface="宋体"/>
              </a:rPr>
              <a:t>Extending the algebr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Involving the extra point in the operations must preserve the laws of the var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Everything must stay continuous with respect to the new top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0AF8-CF8F-4A71-A561-8ABCC34E6B2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1A024-F662-4832-931A-4A2B62EF8D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宋体"/>
              </a:rPr>
              <a:t>Results with this constr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leman: congruence 4-permutability is not strong enough to for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A Depth 1 variety satisfi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if and only if it is congruence modular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-permutable for som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(Bentz, 200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his partial construction unfortunately will not work in all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More doubled points might be a promising approa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638680" y="2514600"/>
                <a:ext cx="16765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T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5715000" y="2013120"/>
                <a:ext cx="16765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T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87C7-6AB5-440D-BDA9-9D309300612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62234-F1F9-4FC7-8196-DCB43F494E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  <a:ea typeface="宋体"/>
              </a:rPr>
              <a:t>Thank you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8098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4C56-7431-4D1E-BFD7-B38E41F76CD3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B6642A8-BFA7-48A9-8201-E5E8C6C5EB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宋体"/>
              </a:rPr>
              <a:t>Universal Topological Algeb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Algebra and Topology are compatible if all functions are continu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Via compatibility the algebraic structure restricts the topological one and vice ver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General Question: How do algebraic properties correspond to topological on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ypical Results have the form: The varieties with (A) are exactly those whose topological algebras satisfy (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1C4D-CDC9-45F2-B4E7-E2B44FB109C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6E883-1408-479A-9608-52DD6CF11E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宋体"/>
              </a:rPr>
              <a:t>The construction tas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o draw topological conclusions from algebraic properties, one applies continuity “directly” to algebraic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No such direct way is apparent when trying to deduce algebraic conclusions from topological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nce, such results are proved by finding counterexamp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6F66-55EC-4DA3-B227-3583BDB0B1C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D87F5C-6287-4EBE-A060-4756C273E6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宋体"/>
              </a:rPr>
              <a:t>The construction tas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unterexamples for single varieties can show that a correspondence does not 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o get a more general result one needs to find a general construction principle, working for all varieties satisfying an algebraic property (a generic counterexampl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DD54-95E1-4844-9080-00FEAB6E223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ECBC0-F839-4374-A96E-2A35DF6A27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宋体"/>
              </a:rPr>
              <a:t>Exampl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leman (1997): A variety satisfi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if and only if it i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-permutable for som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One direction already shown in Gumm (1984)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-permutable varieties satisf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52560" y="4984920"/>
                <a:ext cx="16383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T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277040" y="1631880"/>
                <a:ext cx="16383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T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B04C-5A69-4308-B51D-F9F5E5DB35C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A6313-676D-4A8B-B79A-40B053381E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04920" y="1447920"/>
            <a:ext cx="8534160" cy="502920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宋体"/>
              </a:rPr>
              <a:t>Separation Conditions: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cxnSp>
        <p:nvCxnSpPr>
          <p:cNvPr id="234" name=""/>
          <p:cNvCxnSpPr>
            <a:stCxn id="232" idx="1"/>
            <a:endCxn id="232" idx="1"/>
          </p:cNvCxnSpPr>
          <p:nvPr/>
        </p:nvCxnSpPr>
        <p:spPr>
          <a:xfrm>
            <a:off x="285480" y="396216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5" name=""/>
          <p:cNvSpPr/>
          <p:nvPr/>
        </p:nvSpPr>
        <p:spPr>
          <a:xfrm>
            <a:off x="914400" y="2971800"/>
            <a:ext cx="5181480" cy="3429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905120" y="3809880"/>
            <a:ext cx="5333760" cy="304920"/>
            <a:chOff x="1905120" y="3809880"/>
            <a:chExt cx="5333760" cy="304920"/>
          </a:xfrm>
        </p:grpSpPr>
        <p:sp>
          <p:nvSpPr>
            <p:cNvPr id="237" name=""/>
            <p:cNvSpPr/>
            <p:nvPr/>
          </p:nvSpPr>
          <p:spPr>
            <a:xfrm>
              <a:off x="1905120" y="3809880"/>
              <a:ext cx="304560" cy="304920"/>
            </a:xfrm>
            <a:prstGeom prst="ellipse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934320" y="3809880"/>
              <a:ext cx="304560" cy="304920"/>
            </a:xfrm>
            <a:prstGeom prst="ellipse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7432560" y="457200"/>
                <a:ext cx="676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3AD-5802-4A2F-895B-6251343E8D2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A8C73-C9C5-4EDD-AA65-CA1020DB31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4920" y="1447920"/>
            <a:ext cx="8534160" cy="502920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宋体"/>
              </a:rPr>
              <a:t>Separation Conditions: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40" idx="1"/>
            <a:endCxn id="240" idx="1"/>
          </p:cNvCxnSpPr>
          <p:nvPr/>
        </p:nvCxnSpPr>
        <p:spPr>
          <a:xfrm>
            <a:off x="285480" y="396216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3" name=""/>
          <p:cNvSpPr/>
          <p:nvPr/>
        </p:nvSpPr>
        <p:spPr>
          <a:xfrm>
            <a:off x="914400" y="2971800"/>
            <a:ext cx="5181480" cy="3429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05120" y="3809880"/>
            <a:ext cx="5333760" cy="304920"/>
            <a:chOff x="1905120" y="3809880"/>
            <a:chExt cx="5333760" cy="304920"/>
          </a:xfrm>
        </p:grpSpPr>
        <p:sp>
          <p:nvSpPr>
            <p:cNvPr id="245" name=""/>
            <p:cNvSpPr/>
            <p:nvPr/>
          </p:nvSpPr>
          <p:spPr>
            <a:xfrm>
              <a:off x="1905120" y="3809880"/>
              <a:ext cx="304560" cy="304920"/>
            </a:xfrm>
            <a:prstGeom prst="ellipse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34320" y="3809880"/>
              <a:ext cx="304560" cy="304920"/>
            </a:xfrm>
            <a:prstGeom prst="ellipse">
              <a:avLst/>
            </a:prstGeom>
            <a:solidFill>
              <a:srgbClr val="0068a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7454880" y="484200"/>
                <a:ext cx="6303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3276720" y="2971800"/>
            <a:ext cx="518148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C904-3A58-4F24-8B07-99191011324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7718C-4FDE-47E8-813F-0F9D3D0AC3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宋体"/>
              </a:rPr>
              <a:t>Generic Counterexa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Note: the original proof does not construct a counterexample directly; the following has been derived from it and various preceding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Let V be a variety that is not n-permutable for any 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9592d"/>
              </a:buClr>
              <a:buSzPct val="11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sider F(x,y), the free algebra in V over {x,y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18AF-9C38-4A82-81BE-D8CFDBD913F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95498-FD15-4665-955C-4BE73BC4A4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1T19:07:27Z</dcterms:created>
  <dc:creator>Wolfram Bentz</dc:creator>
  <dc:description/>
  <dc:language>en-US</dc:language>
  <cp:lastModifiedBy>Wolfram</cp:lastModifiedBy>
  <dcterms:modified xsi:type="dcterms:W3CDTF">2010-06-06T22:48:53Z</dcterms:modified>
  <cp:revision>101</cp:revision>
  <dc:subject/>
  <dc:title>On the topological implication  </dc:title>
</cp:coreProperties>
</file>